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BF6E-03E7-45C5-AD55-103ADF41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FC8-925C-4753-8B13-52125690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3B98-812B-4F4E-BDE5-77A5E74D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C04-C22A-4213-97C2-BB31FC5A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3D82-7731-421B-A8D2-0D27D26E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51AF-D1CF-480C-9F76-4DD5920D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0736-D25A-40ED-AE95-F040F3EE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0383-06A3-4834-9028-F66DF6B0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6248-8511-42E2-9AA2-110209C2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392C-AC3B-4BB8-B87B-77857CE3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5ECF-263A-4831-B85F-846C3D95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69D-4DED-4177-99DD-2557A235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97FF-0B22-42C5-BFCC-57752CF6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F7EB-6A8C-439D-9EF9-1EFFDEB8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A613-A38E-420D-82C8-5F962D7B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FE4C-97F2-407A-92DC-EDD46F95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6FD2-EC6A-490F-80B2-A1E4A5EE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22BEA-A2B4-4E1B-BE2D-95C66BC9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0120B-9436-4FA5-AE3B-86D0A3B0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D5F18-912E-452B-AE18-6B79056D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95AC1-E681-4D02-BA7F-185A76BA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2D0A4-A9C8-48DD-82D1-C7D74D27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364-D609-4DFC-AE85-10FBE05C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F66E4-844C-464B-8295-1C23B85E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D4104-24EB-4CFA-8231-3B2CED04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F6521-9E85-4DC0-9784-08F2529B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E735B-6EAC-4A77-83A6-3F03435F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3483B-2ADA-497F-B018-2C9C5F77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47A47-A6A3-452D-88D4-256E7FC6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66F23-D619-428F-8E1B-A7463763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D0F39-947C-434E-8BAE-AE7419EE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C0700-A046-4CF1-BD02-5E95019D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7F039-36ED-4FA1-AAB2-595D94FB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98A-2198-437F-86F7-457CC986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3415B-01E6-4FEE-ADAF-8EC9B9F2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EB216-0EA6-4660-B367-2E6F9212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C5815-97CE-44E5-987F-7EF379FD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FE53E-7FB3-437E-A486-FB3A7570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56891-0047-42AE-A9BF-A383E8CF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5E5FC-5EE6-46D6-BCF1-1AF28BE0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87350-78DF-434E-8FBE-9F5A3671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16F33-BDF5-4D88-A531-FB5BCC84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927F0-31F1-4159-986E-A4A1C246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73505-43DC-49AA-BC73-ED815B57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592-AC21-4730-8763-4FB331B9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44F60-663A-4FAD-ABEF-AA181B41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E70B0-7F2A-415B-B1BA-281030B5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24C88-2BD8-4B42-943A-ED539FA6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D2F45-E301-4F16-9ADA-E804118B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80F21-745E-468D-AC0F-C166659C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DD74B-A822-4C41-81D7-61E4CAE5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36FF9-15C5-45E0-BB3A-5FA4797F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0C64C-30DE-47E9-91C4-0239B253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A5CB6-4CD9-4837-AC7D-98F7D96E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C3B47-B428-421F-AEA5-52135638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BD77-BC16-4038-92E8-E2699DC5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06B76-3485-47C4-911F-E797B65E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FE2D6-A87F-4E6B-8133-85C46803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04FD1-9E0E-424E-8A91-07565E44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28FB6-D93F-45E7-841C-7D743855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18160-626B-447B-8B69-2C6F6078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F2BC2-BEB2-4DE8-978E-765F2E1D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D26A7-39D5-4E60-9DE0-97C50CD6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149E8-5674-4EFF-A485-C06DB771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0D15B-3FBA-45D8-BC68-D43D1470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B19F0-64BB-4744-A8BC-FBF052BA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EB76-1658-445B-8079-5E1B5D9F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EA1B0-E16B-47C1-9FD0-A8C03D76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18B76-7C12-4CFF-AFBA-4532A6DE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7CF1F-0CF1-4E83-A4D5-F56FAD59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1B4B9-91A2-4868-91A1-FC3373D9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8EAD1-50B5-44AA-A2B4-5EBBCEBF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1564B-3746-487F-9793-6588D05A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0FDE1-ED0B-4373-9426-AFF45903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05D40-B43B-4B73-B3AF-30FA2C76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95B6C-A482-40BD-B2B6-7372C130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C8316-77F5-4CB0-8E82-52554472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A178-39BB-4A7A-BDDB-54804198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AAD4C-10F4-4974-9182-DFBCE963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0DA18-13DE-4D1B-B246-BC6ABDC1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4A57A-0CB2-4294-9C5A-F99C9FF2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C0C5C-226F-4B6E-BEF2-667F7C92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2BA68-627F-406C-8549-9B2D6833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0A4D-32FD-4F56-9C66-BF00099C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45EB-9DA3-41BF-9C0E-EEC250BF655B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AB10-A900-4AC4-9A19-162708462BD6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E6E5-7695-4CDE-813E-163BC8D01B56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B920-54DB-4CCB-9BD1-2529978BEDF9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3A8D-B96D-4693-A3C2-18EE8D4FB434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A8C9-D58A-445C-A787-62478863040D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45AC-5702-4738-A0B9-AA6B8FB3C340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5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8d3e"/>
                </a:solidFill>
                <a:latin typeface="Verdana"/>
              </a:rPr>
              <a:t>Cum să prevenim delicvenţa juvenilă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1187280" y="2205000"/>
            <a:ext cx="64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ala Sercaia, Braso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hip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ordan Josef – cls. a VIII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iran Ancuta – cls. a VIII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50920" y="692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Identificaţi formele de delicvenţă juvenil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are este cauza obiectivă/specifică care a condus la săvârşirea acestor fenomen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um trebu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ihai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să prevină aceste manifestăr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um  aţi fi procedat dacă eraţi în locul lui Miha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e credeţi că s-a întâmplat la Poliţie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8d3e"/>
                </a:solidFill>
                <a:latin typeface="Verdana"/>
              </a:rPr>
              <a:t>Obiective operaţional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79280" y="98064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Combaterea şi prevenirea delicvenţei din rândul elevilor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precizeze la ce se referă delicvenţa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epistarea şi înţelegerea cauzelor care generează delicvenţ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enumere condiţiile care favorizează delicvenţa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recunoască formele de manifestare a delicvenţei juvenile şi a factorilor de risc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identifice  cazuri de delicvenţă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numească modalităţi de prevenire a delicvenţei juvenile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ermenul de delicvenţă juvenilă nu se referă la orice abatere comportamentală , ci numai la comportamentul tinerilor până la vârsta de 18 ani care contravine legii, la abaterile de la legile juridice ale statului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56000" y="291960"/>
            <a:ext cx="6130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8d3e"/>
                </a:solidFill>
                <a:latin typeface="Verdana"/>
              </a:rPr>
              <a:t>Cauzele şi condiţiile obiective ce contribuie la apariţia delicvenţei juvenile sunt: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8640" cy="432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Lip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unor fonduri materiale şi băneşti pentru asigurarea protecţiei reale a familiei, care să asigure condiţii de creştere şi educare a copiil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pariţia şi creşterea îngrijorătoare a numărului grupurilor care favorizează comiterea infracţiunilor, formate din infractori majori la care sunt atraşi şi minor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reşterea aberantă a preţurilor la toate produsele concomitent cu scăderea puterii de cumpărare ; în aceste condiţii părinţii nu mai pot asigura copiilor cele necesare unui trai dec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xistenţa unor boli psihice la minori şi netratarea datorită lipsei de medicamente din sistemul sanita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xistenţa unor grade de întârziere în evoluţia intelectuală a minorulu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Proliferarea necontrolată a unor publicaţii , casete video, filme cu caracter pornografic şi violent , toate pe fondul lipsei de educaţi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56000" y="836280"/>
            <a:ext cx="5914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Cauzele specifice care contribuie la apariţia acestui fenomen sunt: 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886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Necunoaşterea de către părinţi a anturajului , locurilor şi mediilor frecventate de minor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Influenţa unor infractori aflaţi în anturajul minorilor prin determinarea acestora să comită infracţiun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Lipsa unei legături permanente între familie şi şcoa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iscontinuitatea în educaţia şi supravegherea copiilor de către părinţi sau ocrotitori legal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5280" y="291960"/>
            <a:ext cx="793116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8d3e"/>
                </a:solidFill>
                <a:latin typeface="Verdana"/>
              </a:rPr>
              <a:t>Din cazuistică rezultă că aspectele comportamentale deviante întâlnite mai frecvent sunt 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497800" cy="4402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Fuga în mod repetat de la domiciliu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bsenţe nemotivate de la şcoală, dezinteres faţă de învăţătură sau abandonarea şcoli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Hoinăreala, vagabondaj, libertinism, consum de băuturi alcoolice , droguri, aurola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Tendinţe de aventurism, de constituire în grupuri în scopul comiterii de infracţiun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legerea unor anturaje din mediul infracţional, unde se găsesc infractori major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Sfidarea legilor, a normelor de disciplină , a normelor de convieţuire social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ortul unor arme albe sau de foc, a unor substanţe lacrimogene sau paralizante, cu scopul de a fi folosite la atac sau apărare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Pentru a evita implicarea în săvârşirea unor fapte care contravin legii este bine să :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legaţi prietenii cu persoane care manifestă un comportament devian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Fiţi prudenţi în relaţiile cu persoanele nou cunoscute sau cunoscute întâmplător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intraţi în anturaje dubioase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Evitaţi frecventarea locurilor şi mediilor unde se adună persoane dubioase, se consumă alcool, droguri sau se practică jocuri de noro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primiţi nimic de la persoane necunoscute sau despre care aveţi puţine informaţi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acă aveţi ocazia,  combateţi delicvenţa legată de droguri, demascând plasatorii şi eventualii consumator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tunci când anumite persoane din anturajul vostru vă oferă spre vânzare la preţuri modice diferite obiecte sau valori a căror provenienţă nu o cunoaşteţi trebuie să vă dea de gândi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Studiul de caz: prevenirea delicvenţei juvenile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Elevul Mihai din clasa a IX-a face parte dintr-o familie organizată cu o situaţie modestă. El merge la şcoală, înţelege situaţia materială a familiei sale şi doreşte să-şi continue studiile. După vacanţă, nu prea mai are chef de învăţat şi a luat căteva note rele. A început să urască matematica, pe motivul că profesorul îl persecută. Profesorul observă şi îl întreabă ce se î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âmplă cu 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e-l interesează pe el ? E problema mea, ştiu eu când să învăţ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Într-o zi tatăl său îl întreabă cum mai merge şcoala. Băiatul îi răspu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Bine tată, bine!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07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o-RO" sz="2200" spc="-1" strike="noStrike">
                <a:solidFill>
                  <a:srgbClr val="ff8d3e"/>
                </a:solidFill>
                <a:latin typeface="Verdana"/>
              </a:rPr>
              <a:t>În zilele următoare a evitat ora de matematică, iar pe lângă ea şi pe altele... Pleca în fiecare zi de la şcoală. S-a împrietenit cu doi colegi care şi ei hoinăreau, chiuleau şi fumau. Unul dintre ei aducea ţigări scumpe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8360" y="2276640"/>
            <a:ext cx="8183520" cy="39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e unde le ai ?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Se găsesc destule” şi făcu semnul furtişagulu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lăcerea comună devenea tot mai distractivă. Se “descurcau” cu ţigările. Într-o zi vânzătorul unei tarabe  l-a prins pe “prieten” băgând o brichetă în buzunar. A strigat la el, făcându-l hoţ. Mihai se enervă şi sări în ajutorul prietenului. Strigă la rândul său, îl făcu mincinos pe vânzător şi încercă să-i oprească mâna ce încerca să-l reţină pe prieten. Se adună multă lume, apăru şi Poliţia care luă măsurile necesa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5:48:20Z</dcterms:created>
  <dc:creator>catalina</dc:creator>
  <dc:description/>
  <dc:language>en-US</dc:language>
  <cp:lastModifiedBy>Mihaela</cp:lastModifiedBy>
  <dcterms:modified xsi:type="dcterms:W3CDTF">2012-05-06T18:23:22Z</dcterms:modified>
  <cp:revision>29</cp:revision>
  <dc:subject/>
  <dc:title>Cum să prevenim delicvenţa juvenilă.</dc:title>
</cp:coreProperties>
</file>