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0D6-E985-4BD7-A52A-2769A483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50DC-8CCD-4204-BB44-61077CBC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467-E277-4CBE-B987-DA91BE6E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F8B-E06E-4FBB-B6DF-19B6B1BC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48A1-41FD-44F6-81CF-CD4937B7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9B2C-741F-4AC6-8D3B-062B4CA2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0984-9EF2-4CA8-8769-9D47A0F0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81E9-E131-41B2-A80B-047ED2A9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0944-F289-4207-AD7D-2647FC77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A2E0-235F-41F7-97D0-97AF95A1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CDA6-1D7D-4548-BCDB-1D16D22A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EEE-D346-44E6-A289-0F3A12EA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C711-9CB0-4433-9C2F-AA14CED9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0AFC-A30F-4027-954C-7AB8FE11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8AF8-BB3D-414E-A238-E6EE4049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B6F0-4802-484C-866D-FE78E884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868D-355C-441F-B972-75E44B8B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3BD96-6C84-4B84-9238-FE48DB21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6FC8-DD2C-49A0-B838-8A9BB12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F34A-4852-461E-B04C-1773D522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BC13-F0CE-438E-8F3C-6BDC9FD7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34B4-2C39-46CD-9922-6D907AAB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59A-EA26-413D-8877-FB77B29C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AE53-338B-4E61-A6CC-4DDFB643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4650-39E7-40A7-9408-58903CA5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BA18-5644-4697-BAC2-4D4A9532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7A22-6091-4F53-825D-CB59B9A9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C248-40FD-4543-A4F3-57E90C36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FE1C8-9A55-48B9-9004-7AAB0CED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2528-D496-4214-B8FB-F0E5230A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B9507-003E-4257-BC1E-061DD393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653F-3C83-4F60-8E4D-3D60BCD0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568B-5E5F-4677-BBB7-6F9224CD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4B0-0783-47FA-9CE3-D2361418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C4580-6B05-4BBD-AB60-BB6525B5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7E95F-58AD-4C52-BC98-E6231921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C94B1-8F57-4DAB-A0F3-45F8DE6B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79BAB-319B-4009-9F0D-81D588F4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27605-587C-465A-A3B8-4F654165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F0DB3-AD51-4AF7-A6D6-7DB9BA9E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A6812-D1D7-4967-97FF-970D13B0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E1FD0-2804-4BB1-9560-968BC7E0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F7A6C-01AA-48BB-8C45-E6C3E18B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84CD5-D461-4045-BE13-35178122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D4C-4B28-4134-93B2-B5846FE9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92A03-9B79-4548-B29C-DD2C706C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9A40D-CBA7-4FDF-9B3A-22998869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975B5-01A6-4D6B-8371-DB6F8570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111CD-3E29-4840-AABA-9B72CB82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1413-2A66-4FE9-BD61-EF7DE1F8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4DCFF-C500-482E-ACEA-1A86A18A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A91B5-0E38-4481-B090-EB099A2C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0CBA9-3B70-4620-8FFE-9BCC24ED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004D0-862E-443F-9E01-EF9F1232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4519F-4824-4597-9AFC-EB2C7950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EB2-B042-4CD8-AB42-FD67C217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923EC-A8F2-4B27-A85F-D7AD10A2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F1F1E-050F-4069-B856-F864123C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626A6-F3CF-48BC-9ECF-8DE6082E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9A83E-E70E-4A5D-800B-07D91B42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4A80C-CC82-4AA2-BB53-CBE76020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03B39-26F3-4EB3-BC85-E0CA43F5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BAA1B-400E-4D1A-9F0D-34930B03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2A1DB-5702-403A-8DAF-64388D38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7B4E-7D42-4BB9-9B1C-C9AAA0E0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18363-94DA-4AFD-B1DB-11A4607F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7D3-D6DE-4DE9-B01A-14AE1F4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8D1BC-AC6F-42DE-A22C-818161DF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6B3D-902D-4194-851E-CE267036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179DE-F95A-4E20-B541-5D66E182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8377A-BEAB-4A84-A355-91930115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BB65A-2A46-4E26-98BA-AD07D394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B680E-2AEC-4BF9-B40C-4E4175D9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23A38-E745-43A5-92D8-0AF85FC5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5C9B4-54CB-47FB-A979-A52E028A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53278-0F06-4320-BDDD-1B66CC36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DEBC8-761B-4787-97AD-33021DF2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96C-CE11-4FD9-8BA9-C6762A45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025D9-6B2E-4439-AF45-A1CBBDEC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39799-C0DD-453A-8EB0-BCBAFF3B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AC8F9-7FFB-4362-9FA1-59B032B3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1AE3D-B6CD-4AC5-B9A8-8F25E70B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24327-82E0-419B-85F6-E056EE10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5DB-59BD-4AF6-8CC3-BDD1DE7C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5F25-2321-4D22-B2D2-D6C3C30AB2D3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E810-2277-4F16-A33E-45B088C82F5E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21AA-09D0-49E8-80A3-2949D673C733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54C9-792F-4E02-AEF2-F28C55DE8211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4D7C-1336-4F76-A170-C8DED350E59E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222C-CD50-4B97-9716-A2E73E6F2A80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12FE-3598-4138-B3E9-C5CB281B7825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Cum să prevenim delicvenţa juvenilă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187280" y="2205000"/>
            <a:ext cx="64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ala Sercaia, Braso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ip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rdan Josef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ran Ancuta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50920" y="692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Identificaţi formele de delicvenţă juvenil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re este cauza obiectivă/specifică care a condus la săvârşirea acestor fenomen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trebu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iha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să prevină aceste manifestăr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 aţi fi procedat dacă eraţi în locul lui Miha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 credeţi că s-a întâmplat la Poliţie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8d3e"/>
                </a:solidFill>
                <a:latin typeface="Verdana"/>
              </a:rPr>
              <a:t>Obiective operaţional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79280" y="98064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mbaterea şi prevenirea delicvenţei din rândul elevilor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precizeze la ce se refer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pistarea şi înţelegerea cauzelor care generează delicvenţ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enumere condiţiile care favorizeaz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recunoască formele de manifestare a delicvenţei juvenile şi a factorilor de risc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identifice  cazuri de delicvenţă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numească modalităţi de prevenire a delicvenţei juveni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enul de delicvenţă juvenilă nu se referă la orice abatere comportamentală , ci numai la comportamentul tinerilor până la vârsta de 18 ani care contravine legii, la abaterile de la legile juridice ale statului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56000" y="291960"/>
            <a:ext cx="6130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8d3e"/>
                </a:solidFill>
                <a:latin typeface="Verdana"/>
              </a:rPr>
              <a:t>Cauzele şi condiţiile obiective ce contribuie la apariţia delicvenţei juvenile sunt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8640" cy="432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Lip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unor fonduri materiale şi băneşti pentru asigurarea protecţiei reale a familiei, care să asigure condiţii de creştere şi educare a copiil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pariţia şi creşterea îngrijorătoare a numărului grupurilor care favorizează comiterea infracţiunilor, formate din infractori majori la care sunt atraşi şi minor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reşterea aberantă a preţurilor la toate produsele concomitent cu scăderea puterii de cumpărare ; în aceste condiţii părinţii nu mai pot asigura copiilor cele necesare unui trai dec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boli psihice la minori şi netratarea datorită lipsei de medicamente din sistemul sanit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grade de întârziere în evoluţia intelectuală a minorulu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liferarea necontrolată a unor publicaţii , casete video, filme cu caracter pornografic şi violent , toate pe fondul lipsei de educaţ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56000" y="836280"/>
            <a:ext cx="5914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Cauzele specifice care contribuie la apariţia acestui fenomen sunt: 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Necunoaşterea de către părinţi a anturajului , locurilor şi mediilor frecventate de mino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Influenţa unor infractori aflaţi în anturajul minorilor prin determinarea acestora să comită infracţiun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Lipsa unei legături permanente între familie şi şcoa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iscontinuitatea în educaţia şi supravegherea copiilor de către părinţi sau ocrotitori legal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28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8d3e"/>
                </a:solidFill>
                <a:latin typeface="Verdana"/>
              </a:rPr>
              <a:t>Din cazuistică rezultă că aspectele comportamentale deviante întâlnite mai frecvent sunt 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440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uga în mod repetat de la domiciliu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bsenţe nemotivate de la şcoală, dezinteres faţă de învăţătură sau abandonarea şcol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Hoinăreala, vagabondaj, libertinism, consum de băuturi alcoolice , droguri, aurola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Tendinţe de aventurism, de constituire în grupuri în scopul comiterii de infracţiun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legerea unor anturaje din mediul infracţional, unde se găsesc infractori maj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fidarea legilor, a normelor de disciplină , a normelor de convieţuire social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ortul unor arme albe sau de foc, a unor substanţe lacrimogene sau paralizante, cu scopul de a fi folosite la atac sau apărare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Pentru a evita implicarea în săvârşirea unor fapte care contravin legii este bine să 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legaţi prietenii cu persoane care manifestă un comportament devian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iţi prudenţi în relaţiile cu persoanele nou cunoscute sau cunoscute întâmplăt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intraţi în anturaje dubioase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Evitaţi frecventarea locurilor şi mediilor unde se adună persoane dubioase, se consumă alcool, droguri sau se practică jocuri de noro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primiţi nimic de la persoane necunoscute sau despre care aveţi puţine informaţ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acă aveţi ocazia,  combateţi delicvenţa legată de droguri, demascând plasatorii şi eventualii consumat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tunci când anumite persoane din anturajul vostru vă oferă spre vânzare la preţuri modice diferite obiecte sau valori a căror provenienţă nu o cunoaşteţi trebuie să vă dea de gândi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Studiul de caz: prevenirea delicvenţei juvenile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Elevul Mihai din clasa a IX-a face parte dintr-o familie organizată cu o situaţie modestă. El merge la şcoală, înţelege situaţia materială a familiei sale şi doreşte să-şi continue studiile. După vacanţă, nu prea mai are chef de învăţat şi a luat căteva note rele. A început să urască matematica, pe motivul că profesorul îl persecută. Profesorul observă şi îl întreabă ce se î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âmplă cu 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-l interesează pe el ? E problema mea, ştiu eu când să învăţ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tr-o zi tatăl său îl întreabă cum mai merge şcoala. Băiatul îi răspu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Bine tată, bine!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07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o-RO" sz="2200" spc="-1" strike="noStrike">
                <a:solidFill>
                  <a:srgbClr val="ff8d3e"/>
                </a:solidFill>
                <a:latin typeface="Verdana"/>
              </a:rPr>
              <a:t>În zilele următoare a evitat ora de matematică, iar pe lângă ea şi pe altele... Pleca în fiecare zi de la şcoală. S-a împrietenit cu doi colegi care şi ei hoinăreau, chiuleau şi fumau. Unul dintre ei aducea ţigări scumpe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2276640"/>
            <a:ext cx="8183520" cy="39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 unde le ai 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e găsesc destule” şi făcu semnul furtişagulu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lăcerea comună devenea tot mai distractivă. Se “descurcau” cu ţigările. Într-o zi vânzătorul unei tarabe  l-a prins pe “prieten” băgând o brichetă în buzunar. A strigat la el, făcându-l hoţ. Mihai se enervă şi sări în ajutorul prietenului. Strigă la rândul său, îl făcu mincinos pe vânzător şi încercă să-i oprească mâna ce încerca să-l reţină pe prieten. Se adună multă lume, apăru şi Poliţia care luă măsurile neces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48:20Z</dcterms:created>
  <dc:creator>catalina</dc:creator>
  <dc:description/>
  <dc:language>en-US</dc:language>
  <cp:lastModifiedBy>Mihaela</cp:lastModifiedBy>
  <dcterms:modified xsi:type="dcterms:W3CDTF">2012-05-06T18:23:22Z</dcterms:modified>
  <cp:revision>29</cp:revision>
  <dc:subject/>
  <dc:title>Cum să prevenim delicvenţa juvenilă.</dc:title>
</cp:coreProperties>
</file>