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569-7733-4C46-821C-B61B6A355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8416-EC93-44C9-9639-0E10E608F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CE07-9DA2-453B-A95C-914DFE0EE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0D8D-20F4-4B89-804B-1DF45E6B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31AB2-C7CA-41C0-B27A-A6E12BD21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F426-D571-43B6-A9DD-5851B027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C061-F535-4CF0-9F66-7F69A926F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A2D05-468E-4173-9D77-57DA19541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51BE-C351-490B-A506-12DA4942B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B75A1-173F-461C-A703-D0DDB01B7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2BC3-7931-494A-B153-0AFDF2EE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3A8E-5A08-4796-960F-635173D7B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47DD-5AD7-41A4-9223-CC6F9402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3780-36AA-4AA2-B3DC-912DFEEBA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7DD0F-4F8D-4C88-BBEE-8A1D93E34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97CF0-AEAC-4507-939A-5FF02233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14F5-55D7-4F10-9942-0ADC9639E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8B636-5C7A-4BF0-A42D-5DC818815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4B2086-C6FF-4216-B83E-93F281849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10AA21-89CD-42CE-BBF6-492817BBF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1AFD7-A621-43BD-9A72-FB3091ED2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017C5-12AF-4D0E-8D65-E412477F4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0160-4477-4853-9E93-B82501249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6B3148-E280-4765-B60C-D35AB6B2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8BCB6-1805-4F3C-8913-15EE37B3F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93055-EAAD-43B4-8C16-240D8FD2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8D48D-D398-446C-B957-88E98CCE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92DAC-FB77-49C1-A05E-AF8DFF62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E9AA6A-CDAC-448B-9E73-35B4CFF49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F1F9D-F0C4-4863-9199-EC6E234AF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F0DB5-D51A-433D-AB1D-4CF4D18FA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92F0F-1C72-4185-A316-563B25F6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667DF-964B-481B-97D9-221A72E50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C74A6-38EA-4359-9FB2-5ABA1881B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898192-CD35-496D-AEB8-CA223F683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586A28-4A0A-4AB1-BBE7-5ED4E9EA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4CD64B-815F-4CD1-BB6D-2F9056D2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8E1FB-E14C-4558-BD00-A25E6F1E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37EE5D-BD9A-477B-A15E-8EABA4DA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510091-100B-4D5E-9B30-566DF4B5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9AEDD-20F0-407D-A775-2E498F6C5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96E0B-D397-48CF-944D-A481F542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CCA9D-EBB6-48CD-BC3D-87CF915F3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8CB9D6-0BAF-4C57-AB73-38E22804F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BD85-7A7C-4486-8959-06A918C9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71F5E4-85AD-499E-893F-6C941D89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4025E-C2EC-4411-A7D7-1818E001D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963F5C-036E-4C61-BAD6-BD62C4EB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5D649-23D5-468B-AFC5-9538BAD76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41D5F-E072-4C9D-865A-C95400F02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C6FC0-C3B4-47AF-B858-60F19C3D4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8C9DC-7896-4C5E-89A1-7C49EF25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14059-C8D8-4B84-A5CC-B11884F52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5FF2E5-B8BB-45C1-A2A5-24375D970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94ABD7-6251-4DDF-8408-E90568295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1297-A119-4F7B-9618-1699F123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90ADB-E33E-4A2E-B0D2-336F86E0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B55797-86BD-4CB9-B113-33A5CF733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4DD83-D585-45CD-9183-911FBD98C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EC5FC5-42E0-42BB-8970-910CD1B7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5AA81-227A-41F5-8BF5-0188374E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BF6A4-4019-4466-A8BE-8A598AA4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A188A-6C20-449C-8E61-00579568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85D2D-1181-4766-A74F-2979AA037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740964-9B3E-49AD-BE1B-75FC6A7B0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0B827-83C6-455F-8494-D8ECDE22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5D0E-1238-4C05-9AB2-B51D3BCB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AF46A-9565-4BFD-8385-85C7FF3F8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7A2A70-44B4-4C76-9280-6D4F0D5CB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99B21-5D95-494A-8626-955F79E95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02F9B-1363-4369-98CB-86F50463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0E6597-14F4-4CDF-99EC-88B36DE5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9DF50-B106-4A10-B01D-978304817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8313DE-C2B7-49AF-953E-3EBC7C14B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76016-1443-4219-9C2E-1421A5C8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784A10-A477-4B00-8C44-26D5778B1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D82E69-0958-4EAC-B1AB-3B50C95F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56B6-B1DE-4F46-8A93-D779BF87F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2AE8F6-BA3E-4D2F-AD4D-7D106003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F2FAA0-EE34-417F-B117-4543F27A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74D5DB-373B-484B-B841-965780F2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74E418-E726-440C-B11D-4CBC121B8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FD45E-4A17-4951-8798-1C4CFF75A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5E6A-E4F3-4076-ADD2-E83F824A4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5E58-7512-420C-9D2A-4B1800105635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6F14-CD14-4564-AE77-66A48575E38D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65760-F848-4F3F-B1D7-6E4440C2524C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88B09-94F7-4785-870E-B1371CB1CF98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7A25B-545B-45D6-8B2E-FBA4C4D19CDF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870DA-F4BF-4E67-8B83-B0B156C4F2C9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a7a39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33BA-D50F-46F3-8074-C361E150E84B}" type="slidenum">
              <a:rPr b="0" lang="en-US" sz="1000" spc="-1" strike="noStrike">
                <a:solidFill>
                  <a:srgbClr val="a7a399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558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Cum să prevenim delicvenţa juvenilă.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1187280" y="2205000"/>
            <a:ext cx="6480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oala Sercaia, Braso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chipa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ordan Josef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iran Ancuta – cls. a VIII-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3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250920" y="692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Identificaţi formele de delicvenţă juvenilă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are este cauza obiectivă/specifică care a condus la săvârşirea acestor fenomen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trebuia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Mihai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să prevină aceste manifestăr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um  aţi fi procedat dacă eraţi în locul lui Mihai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 credeţi că s-a întâmplat la Poliţie 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ff8d3e"/>
                </a:solidFill>
                <a:latin typeface="Verdana"/>
              </a:rPr>
              <a:t>Obiective operaţionale</a:t>
            </a:r>
            <a:endParaRPr b="1" lang="en-US" sz="3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179280" y="98064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Combaterea şi prevenirea delicvenţei din rândul elevilor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precizeze la ce se refer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epistarea şi înţelegerea cauzelor care generează delicvenţa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enumere condiţiile care favorizează delicvenţa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recunoască formele de manifestare a delicvenţei juvenile şi a factorilor de risc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identifice  cazuri de delicvenţă juveni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ă numească modalităţi de prevenire a delicvenţei juvenil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Termenul de delicvenţă juvenilă nu se referă la orice abatere comportamentală , ci numai la comportamentul tinerilor până la vârsta de 18 ani care contravine legii, la abaterile de la legile juridice ale statului 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56000" y="291960"/>
            <a:ext cx="61308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ff8d3e"/>
                </a:solidFill>
                <a:latin typeface="Verdana"/>
              </a:rPr>
              <a:t>Cauzele şi condiţiile obiective ce contribuie la apariţia delicvenţei juvenile sunt:</a:t>
            </a:r>
            <a:endParaRPr b="1" lang="en-US" sz="2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48640" cy="4321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Lips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unor fonduri materiale şi băneşti pentru asigurarea protecţiei reale a familiei, care să asigure condiţii de creştere şi educare a copiilo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Apariţia şi creşterea îngrijorătoare a numărului grupurilor care favorizează comiterea infracţiunilor, formate din infractori majori la care sunt atraşi şi minor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Creşterea aberantă a preţurilor la toate produsele concomitent cu scăderea puterii de cumpărare ; în aceste condiţii părinţii nu mai pot asigura copiilor cele necesare unui trai decen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boli psihice la minori şi netratarea datorită lipsei de medicamente din sistemul sanitar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Existenţa unor grade de întârziere în evoluţia intelectuală a minorului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Verdana"/>
              </a:rPr>
              <a:t>Proliferarea necontrolată a unor publicaţii , casete video, filme cu caracter pornografic şi violent , toate pe fondul lipsei de educaţi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556000" y="836280"/>
            <a:ext cx="5914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Cauzele specifice care contribuie la apariţia acestui fenomen sunt: </a:t>
            </a:r>
            <a:br>
              <a:rPr sz="2500"/>
            </a:b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95280" y="2133360"/>
            <a:ext cx="8291520" cy="3886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Necunoaşterea de către părinţi a anturajului , locurilor şi mediilor frecventate de minor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Influenţa unor infractori aflaţi în anturajul minorilor prin determinarea acestora să comită infracţiuni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Lipsa unei legături permanente între familie şi şcoală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Discontinuitatea în educaţia şi supravegherea copiilor de către părinţi sau ocrotitori legali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55280" y="291960"/>
            <a:ext cx="793116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ff8d3e"/>
                </a:solidFill>
                <a:latin typeface="Verdana"/>
              </a:rPr>
              <a:t>Din cazuistică rezultă că aspectele comportamentale deviante întâlnite mai frecvent sunt :</a:t>
            </a:r>
            <a:endParaRPr b="1" lang="en-US" sz="2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250560" y="1628280"/>
            <a:ext cx="8497800" cy="44024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uga în mod repetat de la domiciliu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bsenţe nemotivate de la şcoală, dezinteres faţă de învăţătură sau abandonarea şcol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Hoinăreala, vagabondaj, libertinism, consum de băuturi alcoolice , droguri, aurola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Tendinţe de aventurism, de constituire în grupuri în scopul comiterii de infracţiun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legerea unor anturaje din mediul infracţional, unde se găsesc infractori maj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fidarea legilor, a normelor de disciplină , a normelor de convieţuire socială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ortul unor arme albe sau de foc, a unor substanţe lacrimogene sau paralizante, cu scopul de a fi folosite la atac sau apărare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Pentru a evita implicarea în săvârşirea unor fapte care contravin legii este bine să :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148428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legaţi prietenii cu persoane care manifestă un comportament devian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Fiţi prudenţi în relaţiile cu persoanele nou cunoscute sau cunoscute întâmplător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intraţi în anturaje dubioase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Evitaţi frecventarea locurilor şi mediilor unde se adună persoane dubioase, se consumă alcool, droguri sau se practică jocuri de noroc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Nu primiţi nimic de la persoane necunoscute sau despre care aveţi puţine informaţi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acă aveţi ocazia,  combateţi delicvenţa legată de droguri, demascând plasatorii şi eventualii consumatori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Atunci când anumite persoane din anturajul vostru vă oferă spre vânzare la preţuri modice diferite obiecte sau valori a căror provenienţă nu o cunoaşteţi trebuie să vă dea de gândit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0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500" spc="-1" strike="noStrike">
                <a:solidFill>
                  <a:srgbClr val="ff8d3e"/>
                </a:solidFill>
                <a:latin typeface="Verdana"/>
              </a:rPr>
              <a:t>Studiul de caz: prevenirea delicvenţei juvenile</a:t>
            </a:r>
            <a:endParaRPr b="1" lang="en-US" sz="25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96640"/>
            <a:ext cx="8229600" cy="48229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Elevul Mihai din clasa a IX-a face parte dintr-o familie organizată cu o situaţie modestă. El merge la şcoală, înţelege situaţia materială a familiei sale şi doreşte să-şi continue studiile. După vacanţă, nu prea mai are chef de învăţat şi a luat căteva note rele. A început să urască matematica, pe motivul că profesorul îl persecută. Profesorul observă şi îl întreabă ce se î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âmplă cu el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Ce-l interesează pe el ? E problema mea, ştiu eu când să învăţ.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Într-o zi tatăl său îl întreabă cum mai merge şcoala. Băiatul îi răspun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Bine tată, bine!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507520" cy="18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600" spc="-1" strike="noStrike">
                <a:solidFill>
                  <a:srgbClr val="ff8d3e"/>
                </a:solidFill>
                <a:latin typeface="Verdana"/>
              </a:rPr>
              <a:t>	</a:t>
            </a:r>
            <a:r>
              <a:rPr b="1" lang="ro-RO" sz="2200" spc="-1" strike="noStrike">
                <a:solidFill>
                  <a:srgbClr val="ff8d3e"/>
                </a:solidFill>
                <a:latin typeface="Verdana"/>
              </a:rPr>
              <a:t>În zilele următoare a evitat ora de matematică, iar pe lângă ea şi pe altele... Pleca în fiecare zi de la şcoală. S-a împrietenit cu doi colegi care şi ei hoinăreau, chiuleau şi fumau. Unul dintre ei aducea ţigări scumpe.</a:t>
            </a:r>
            <a:endParaRPr b="1" lang="en-US" sz="22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68360" y="2276640"/>
            <a:ext cx="8183520" cy="390024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De unde le ai ?”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Se găsesc destule” şi făcu semnul furtişagului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Verdana"/>
              </a:rPr>
              <a:t>Plăcerea comună devenea tot mai distractivă. Se “descurcau” cu ţigările. Într-o zi vânzătorul unei tarabe  l-a prins pe “prieten” băgând o brichetă în buzunar. A strigat la el, făcându-l hoţ. Mihai se enervă şi sări în ajutorul prietenului. Strigă la rândul său, îl făcu mincinos pe vânzător şi încercă să-i oprească mâna ce încerca să-l reţină pe prieten. Se adună multă lume, apăru şi Poliţia care luă măsurile necesar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9T15:48:20Z</dcterms:created>
  <dc:creator>catalina</dc:creator>
  <dc:description/>
  <dc:language>en-US</dc:language>
  <cp:lastModifiedBy>Mihaela</cp:lastModifiedBy>
  <dcterms:modified xsi:type="dcterms:W3CDTF">2012-05-06T18:23:22Z</dcterms:modified>
  <cp:revision>29</cp:revision>
  <dc:subject/>
  <dc:title>Cum să prevenim delicvenţa juvenilă.</dc:title>
</cp:coreProperties>
</file>