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DFFD-6A54-4A65-9A77-03F43F0A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665C-5182-4493-B1B9-DCC5E2C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7790-BC76-470A-951B-7AC1EC169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F63B-75B6-49D4-BC47-9C99530DB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6E6D8-79C1-465D-AC4F-2016500DE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36F76-20AD-4D90-B6F9-4D5A4A599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87A7-864D-4247-B05A-8C167BB5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A7C4-0D02-46B2-9EC8-5470947AC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4C502-166E-4458-A628-36A7339A3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9BC1-4DF3-44BF-90EB-80D6D2DF7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0079E-0DA5-40CB-A94A-356C87DFB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5450-3D32-481A-BB2C-2927BFA91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6BFF4-49D5-42C5-BFAA-14544644E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74C4-CD18-4EAA-AC1A-1C68AE87C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DE4FC-1EB4-486E-BEEE-1AC7D2DB4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87665-EBF8-44B1-9119-20EA099C0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FF013-ADCB-4DA7-B478-2FCE33399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70C1-38E4-4BAD-84F0-7BE575F9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05F64B-4770-4D5A-BF6A-8808AF97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314FA-329B-4B98-9491-3F640C5BA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19C3AC-53D9-4FBD-9755-EE2E03AD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5A862-4A5B-4189-867B-92510F30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ECAC-1131-4603-9CF6-61D9C5B5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B9E83-E058-4C12-A64A-0634E600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DE51-BCA1-434F-A048-58C4E19D3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0F5FF-57F2-4EC9-9F98-9A7C9547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13551-6F86-4B1D-B8D3-C76CA6D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1BA4A-761B-4CDD-B4AA-FCF8C949C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9D687-F00E-415A-A4B9-308193251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0D9FE-E3A1-4870-9780-73FD3B29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457C-1090-41B1-AEF1-ED723C4F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ACBED-52C9-4BF1-8310-6E353500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AA942-8BDC-4921-B80C-DA1F5F24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1F98-31AD-45BC-92E2-58AF5956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82C94-1AD5-46E4-B790-B6C7D482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1581D0-F855-4458-A3BB-6E1C2AD6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530DC-6A6A-4D69-B604-51491A75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85E60-9DC8-4A00-950F-C4E8B675E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49500-899D-4784-AC10-6A3ED0D1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E585-3E39-40C8-B238-E7481D07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D5A513-063B-4475-84ED-54C7686A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B5F82-19B2-485F-8108-D562E853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4BC99D-19F9-46DD-8D4A-6F21BF51A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648E5-600E-42AA-8B3D-3F9B1EE30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D6D7-DDF5-4FF2-9CDB-42DEBDCA3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8480A-8E50-44D1-933B-78391E579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30C94-06CA-4E0C-83EE-0B788A193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DC164B-28E1-4750-9D37-A6BB940C4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1C3B6-0CC5-481D-9A09-C8211DF8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E7407-7232-450C-A52F-F01DD736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0249E5-F4EE-4580-8791-6A585B6CA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9F4E10-0727-4B1E-B658-1D8ADD89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5DA4C0-53DF-4284-AA14-A6ED638E7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14C30-A83E-4CE2-8415-D39BF969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C2362-B6F9-48BE-B9AB-00922B31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58CE-98DF-4B10-B0DD-DDC5BB77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5B586-CB9A-40FE-B18D-4DE8FB00F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B3947-33A8-4287-AECC-82F7ED4CB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62407E-5EBA-444A-9717-C86A1AD8B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7415E-1BFE-4109-A347-51881484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F073B-A356-4778-A539-27ABAFE9A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98141-3E8C-4D78-BB03-515DF3B1A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2D6D51-8E98-466E-93D7-96D017B89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F5B70D-205A-4B9A-9F13-AD716514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F5B208-4F28-400A-89B6-D6D19DDB4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EA6799-618C-4B34-8091-B1F5356B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85EE-9D15-4CD0-8EA8-2E4DFFDA5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F8C9D2-6C90-431A-A202-EE94B8F6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A6DFF3-AAA0-4238-B695-2F9794CD5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6280B-4AC0-49E8-A3E4-245C99183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306D1A-361B-43D5-961E-7C6301241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21AE9-738E-4F6F-9FFD-FC57414DC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67CA9-06D0-42FF-A186-E6D1ED0C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8AD60E-47D0-423C-A536-38440B28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600B22-7135-4923-90BE-00B907EE1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0DBC4-1816-443F-998A-30E28352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0AA04D-AB7C-47D4-A547-66DC3C01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6C52-4BA1-4BCE-B304-D67A346D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6B6DD-9EC8-4EAA-BA75-B1CEC6335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55663-2E39-4C9F-A547-0C00A5B85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C16624-EB54-45A9-93AF-B6ACFBCA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ABB28-7FF7-47AC-8A14-9C669D3DC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6802DF-F3D5-4B07-9091-0E64BF9EE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23E-D348-4C7C-B750-5B6A85C0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8177C-7D84-4E41-9965-D14F6E19454F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8ABB9-DB58-4EB2-834C-1D65262CB7A5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C1399-CBEA-4FEF-8540-4947D0C38BB6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71572-99A8-4908-8816-A43022FCD68C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6B4CA-FDC1-4B86-899F-FF8F3511EFF5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EC873-9D61-4757-9087-35E3677BA973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34A9-CFB2-4DF6-B579-6C665B7E9152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Cum să prevenim delicvenţa juvenilă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187280" y="2205000"/>
            <a:ext cx="64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ala Sercaia, Braso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ip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rdan Josef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ran Ancuta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920" y="692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Identificaţi formele de delicvenţă juvenil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re este cauza obiectivă/specifică care a condus la săvârşirea acestor fenomen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trebu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iha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să prevină aceste manifestăr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 aţi fi procedat dacă eraţi în locul lui Miha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 credeţi că s-a întâmplat la Poliţie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8d3e"/>
                </a:solidFill>
                <a:latin typeface="Verdana"/>
              </a:rPr>
              <a:t>Obiective operaţiona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mbaterea şi prevenirea delicvenţei din rândul elevilor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precizeze la ce se refer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pistarea şi înţelegerea cauzelor care generează delicvenţ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enumere condiţiile care favorizeaz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recunoască formele de manifestare a delicvenţei juvenile şi a factorilor de risc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identifice  cazuri de delicvenţă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numească modalităţi de prevenire a delicvenţei juveni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enul de delicvenţă juvenilă nu se referă la orice abatere comportamentală , ci numai la comportamentul tinerilor până la vârsta de 18 ani care contravine legii, la abaterile de la legile juridice ale statului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56000" y="291960"/>
            <a:ext cx="613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8d3e"/>
                </a:solidFill>
                <a:latin typeface="Verdana"/>
              </a:rPr>
              <a:t>Cauzele şi condiţiile obiective ce contribuie la apariţia delicvenţei juvenile sunt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8640" cy="432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ip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unor fonduri materiale şi băneşti pentru asigurarea protecţiei reale a familiei, care să asigure condiţii de creştere şi educare a copi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pariţia şi creşterea îngrijorătoare a numărului grupurilor care favorizează comiterea infracţiunilor, formate din infractori majori la care sunt atraşi şi mino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reşterea aberantă a preţurilor la toate produsele concomitent cu scăderea puterii de cumpărare ; în aceste condiţii părinţii nu mai pot asigura copiilor cele necesare unui trai dec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boli psihice la minori şi netratarea datorită lipsei de medicamente din sistemul sanit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grade de întârziere în evoluţia intelectuală a minor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liferarea necontrolată a unor publicaţii , casete video, filme cu caracter pornografic şi violent , toate pe fondul lipsei de educaţ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56000" y="836280"/>
            <a:ext cx="591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Cauzele specifice care contribuie la apariţia acestui fenomen sunt: 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Necunoaşterea de către părinţi a anturajului , locurilor şi mediilor frecventate de min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Influenţa unor infractori aflaţi în anturajul minorilor prin determinarea acestora să comită infracţiun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Lipsa unei legături permanente între familie şi şcoa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iscontinuitatea în educaţia şi supravegherea copiilor de către părinţi sau ocrotitori leg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8d3e"/>
                </a:solidFill>
                <a:latin typeface="Verdana"/>
              </a:rPr>
              <a:t>Din cazuistică rezultă că aspectele comportamentale deviante întâlnite mai frecvent sunt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40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uga în mod repetat de la domiciliu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bsenţe nemotivate de la şcoală, dezinteres faţă de învăţătură sau abandonarea şcol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Hoinăreala, vagabondaj, libertinism, consum de băuturi alcoolice , droguri, aurola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Tendinţe de aventurism, de constituire în grupuri în scopul comiterii de infracţiun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legerea unor anturaje din mediul infracţional, unde se găsesc infractori maj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fidarea legilor, a normelor de disciplină , a normelor de convieţuire social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ortul unor arme albe sau de foc, a unor substanţe lacrimogene sau paralizante, cu scopul de a fi folosite la atac sau apărar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Pentru a evita implicarea în săvârşirea unor fapte care contravin legii este bine să 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legaţi prietenii cu persoane care manifestă un comportament devian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iţi prudenţi în relaţiile cu persoanele nou cunoscute sau cunoscute întâmplăt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intraţi în anturaje dubioas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Evitaţi frecventarea locurilor şi mediilor unde se adună persoane dubioase, se consumă alcool, droguri sau se practică jocuri de noro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primiţi nimic de la persoane necunoscute sau despre care aveţi puţine informaţ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acă aveţi ocazia,  combateţi delicvenţa legată de droguri, demascând plasatorii şi eventualii consumat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tunci când anumite persoane din anturajul vostru vă oferă spre vânzare la preţuri modice diferite obiecte sau valori a căror provenienţă nu o cunoaşteţi trebuie să vă dea de gândi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Studiul de caz: prevenirea delicvenţei juvenile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Elevul Mihai din clasa a IX-a face parte dintr-o familie organizată cu o situaţie modestă. El merge la şcoală, înţelege situaţia materială a familiei sale şi doreşte să-şi continue studiile. După vacanţă, nu prea mai are chef de învăţat şi a luat căteva note rele. A început să urască matematica, pe motivul că profesorul îl persecută. Profesorul observă şi îl întreabă ce se î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âmplă cu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-l interesează pe el ? E problema mea, ştiu eu când să învăţ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tr-o zi tatăl său îl întreabă cum mai merge şcoala. Băiatul îi răspu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Bine tată, bine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07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o-RO" sz="2200" spc="-1" strike="noStrike">
                <a:solidFill>
                  <a:srgbClr val="ff8d3e"/>
                </a:solidFill>
                <a:latin typeface="Verdana"/>
              </a:rPr>
              <a:t>În zilele următoare a evitat ora de matematică, iar pe lângă ea şi pe altele... Pleca în fiecare zi de la şcoală. S-a împrietenit cu doi colegi care şi ei hoinăreau, chiuleau şi fumau. Unul dintre ei aducea ţigări scumpe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276640"/>
            <a:ext cx="8183520" cy="39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 unde le ai 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e găsesc destule” şi făcu semnul furtişagulu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lăcerea comună devenea tot mai distractivă. Se “descurcau” cu ţigările. Într-o zi vânzătorul unei tarabe  l-a prins pe “prieten” băgând o brichetă în buzunar. A strigat la el, făcându-l hoţ. Mihai se enervă şi sări în ajutorul prietenului. Strigă la rândul său, îl făcu mincinos pe vânzător şi încercă să-i oprească mâna ce încerca să-l reţină pe prieten. Se adună multă lume, apăru şi Poliţia care luă măsurile neces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48:20Z</dcterms:created>
  <dc:creator>catalina</dc:creator>
  <dc:description/>
  <dc:language>en-US</dc:language>
  <cp:lastModifiedBy>Mihaela</cp:lastModifiedBy>
  <dcterms:modified xsi:type="dcterms:W3CDTF">2012-05-06T18:23:22Z</dcterms:modified>
  <cp:revision>29</cp:revision>
  <dc:subject/>
  <dc:title>Cum să prevenim delicvenţa juvenilă.</dc:title>
</cp:coreProperties>
</file>