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A4C2-9EC6-4B8E-A4D0-43867DD66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A403-8959-4992-BA28-352FB9A41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D3EA-EF1A-46AE-BAFF-56554F74B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2CB5-FD8F-4440-96C6-515DFC786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53645-4A25-4238-9A60-E62E49E66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10E4D-34B4-4A07-8054-13697B4B5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037B7-45AD-4FA5-A98B-F7398B8A5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A7D8C-8635-430B-93C6-56BF8565E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A8874-E900-4830-AD16-E7F8B781C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8A89D-F01D-4B79-969B-B9F0B8A18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04D20-DC61-40F3-B494-C15D17593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5346-0566-4301-B4AA-FDCEA2621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3B65B-28F5-4B4E-A5CA-D580DE7DC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BCD37-FE73-47EE-8FF5-67CC14220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4560B-E187-4C06-953D-BF286B18C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55E56-42A0-4649-8061-7381823F0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54B0C-31CD-4D66-98F0-D7B10AA26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BAE7C-5968-4C4D-AE19-381FBF61C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F52A1-5BBA-4BFE-A65B-CC5C4FC13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157B3-A861-4BDF-A6F0-D79C8273D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AA917-3EA0-49C9-ABA2-6FDC8D043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74AA2-95AD-44B7-A06E-4322F44E6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9742-1637-4CBA-AB67-197AFFF4B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3EC1E-3C89-4C92-A8D8-190900199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C2A87-A282-421F-AC43-6F501E17F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16A64-4989-4800-ACC2-9B756F589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68918-3F8A-4B66-8724-12B81DDB9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C07F3-296C-40AB-B71E-20761C2F6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099F4-A978-403A-99A1-35E3320FA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0FEB5-5712-4B1A-9625-6CF187269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A59C9-3A13-49F8-B5E1-68170B51B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D2DAA-8D65-4125-BB83-B85397E77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6A0F7-4E3A-4393-BF46-25FEFD554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09D9-7503-4451-9677-E04BA8A6D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8BCAB-5962-4712-B54E-AD0E91C38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FE495-6858-46A9-8936-F5DCAEF57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EE0BE-B3F4-45EA-83EC-CD6CF972E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FB496-2CC5-4ECA-A132-E19C50F35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0D3D3-FF6C-43C8-B43D-39217A22E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29C8A-EE02-451D-95FB-DF37BC8FB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08FA1-85DE-4C38-9DB1-825EBCF64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B23CF-0EA4-4199-A47D-0F3A3C132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2359B-FD8F-413D-85D1-9A8662ABD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E04ABA-3117-4CDB-8E7C-D88E90BAE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DFD9-A200-4D9C-9075-8A60BC506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6F72D7-6524-4697-A868-CD3FB67B9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7B4820-9B20-4166-8071-A07BD1419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D744B8-48C1-4B5D-9C63-A68B223D8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7C09E9-8C2B-4F36-81A6-D875A9BE5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186649-5215-418C-BA68-E15E1C74E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1E5AC-5E55-45F7-AB10-301AA4299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7B3234-9FD6-457B-8358-129537F7F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A87C61-D256-4676-9D20-835151824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1AF108-6A1D-47A9-BED1-F615A1FC9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F8DC9D-77D7-4363-B537-73B330B5C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CA20-9CF6-4C7D-849A-BC6E83128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54918B-0DEC-4442-9D06-B38FD72A6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3D6513-A78D-415C-90AD-BD4331DAA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EF1C90-0CF7-4FB7-AC13-D0DAE5295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3E682A-CCFE-46F0-B21C-2676D92AB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613630-EC3D-48A9-AA26-CEDEFB723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564425-A4DF-4534-BC8E-4208E977C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463534-9095-46E5-9496-0AB1DF722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E86C89-1465-40EA-8904-A084B7B2C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EBA39C-C7A5-427D-8CD8-51A99EBA8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F7DDE6-5616-4E52-935E-AB8E40FC2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A945-C79B-4A53-ABBA-751C6CB1C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E8F5D5-E5D9-465D-8EA8-333C6FC57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D39ED3-7821-47B4-8C73-280EE7862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E8E5F4-A767-40E5-BD93-6DC30347B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81E626-B35F-462D-AC2E-033752974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9205E1-4D51-41CB-9771-75F1D40F3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DB3086-FCBA-443D-A0B4-9456CEB52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6CB4B5-0C41-4F23-85A3-1A0F3EC39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54E9B9-9690-4FFA-8BA2-CFF3FDBE6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E5ABF1-6F5D-45B9-B9AB-AEA32D21D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C41F42-F72F-41A7-8A8E-D70D544BD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BB15-2F74-4BCE-9382-A084521D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7798B7-68D8-41D7-85C6-316CDEDF6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AE451D-53AD-46D1-B92C-A4ED89EA2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F16491-DC1B-4F01-AD84-E02B32C08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CD7552-3E82-445C-894C-FFC8F39A7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47BB30-86E6-4146-8E0F-C8C98BD58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278F-978A-433D-B989-3C08BDEC0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B3193-B733-4CE9-A24B-7F8E08D4C242}" type="slidenum">
              <a:rPr b="0" lang="en-US" sz="1000" spc="-1" strike="noStrike">
                <a:solidFill>
                  <a:srgbClr val="a7a399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" name="Rounded Rectangle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89AD0-4CC3-4823-8CEF-AC8ABE0BC681}" type="slidenum">
              <a:rPr b="0" lang="en-US" sz="1000" spc="-1" strike="noStrike">
                <a:solidFill>
                  <a:srgbClr val="a7a399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1" name="Rounded Rectangle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C52EA-8455-461B-B534-E8304C0BD12C}" type="slidenum">
              <a:rPr b="0" lang="en-US" sz="1000" spc="-1" strike="noStrike">
                <a:solidFill>
                  <a:srgbClr val="a7a399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6EA64-ECB8-4B4C-82A8-D840EF079007}" type="slidenum">
              <a:rPr b="0" lang="en-US" sz="1000" spc="-1" strike="noStrike">
                <a:solidFill>
                  <a:srgbClr val="a7a399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Round Single Corner Rectangle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605" h="4343400">
                <a:moveTo>
                  <a:pt x="0" y="0"/>
                </a:moveTo>
                <a:lnTo>
                  <a:pt x="2260725" y="0"/>
                </a:lnTo>
                <a:lnTo>
                  <a:pt x="2260725" y="0"/>
                </a:lnTo>
                <a:arcTo wR="63880" hR="63880" stAng="-5400000" swAng="5400000"/>
                <a:lnTo>
                  <a:pt x="2324605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1DA26-BDFA-4E79-ABBB-4F865C0244C8}" type="slidenum">
              <a:rPr b="0" lang="en-US" sz="1000" spc="-1" strike="noStrike">
                <a:solidFill>
                  <a:srgbClr val="a7a399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2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A0835-DF92-446E-B546-AA898CF2CA69}" type="slidenum">
              <a:rPr b="0" lang="en-US" sz="1000" spc="-1" strike="noStrike">
                <a:solidFill>
                  <a:srgbClr val="a7a399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6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67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98D2F-8DC5-4910-9702-54FF22589C0A}" type="slidenum">
              <a:rPr b="0" lang="en-US" sz="1000" spc="-1" strike="noStrike">
                <a:solidFill>
                  <a:srgbClr val="a7a399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55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8d3e"/>
                </a:solidFill>
                <a:latin typeface="Verdana"/>
              </a:rPr>
              <a:t>Cum să prevenim delicvenţa juvenilă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1" name="TextBox 4"/>
          <p:cNvSpPr/>
          <p:nvPr/>
        </p:nvSpPr>
        <p:spPr>
          <a:xfrm>
            <a:off x="1187280" y="2205000"/>
            <a:ext cx="6480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coala Sercaia, Brasov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chipa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ordan Josef – cls. a VIII-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iran Ancuta – cls. a VIII-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3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250920" y="692280"/>
            <a:ext cx="8642160" cy="41148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Identificaţi formele de delicvenţă juvenilă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Care este cauza obiectivă/specifică care a condus la săvârşirea acestor fenomene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Cum trebui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Mihai</a:t>
            </a: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 să prevină aceste manifestări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Cum  aţi fi procedat dacă eraţi în locul lui Mihai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Ce credeţi că s-a întâmplat la Poliţie 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8d3e"/>
                </a:solidFill>
                <a:latin typeface="Verdana"/>
              </a:rPr>
              <a:t>Obiective operaţionale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179280" y="980640"/>
            <a:ext cx="8964720" cy="4969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Combaterea şi prevenirea delicvenţei din rândul elevilor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Să precizeze la ce se referă delicvenţa juvenilă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Depistarea şi înţelegerea cauzelor care generează delicvenţa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Să enumere condiţiile care favorizează delicvenţa juvenilă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Să recunoască formele de manifestare a delicvenţei juvenile şi a factorilor de risc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Să identifice  cazuri de delicvenţă juvenilă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Să numească modalităţi de prevenire a delicvenţei juvenile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Termenul de delicvenţă juvenilă nu se referă la orice abatere comportamentală , ci numai la comportamentul tinerilor până la vârsta de 18 ani care contravine legii, la abaterile de la legile juridice ale statului 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556000" y="291960"/>
            <a:ext cx="61308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8d3e"/>
                </a:solidFill>
                <a:latin typeface="Verdana"/>
              </a:rPr>
              <a:t>Cauzele şi condiţiile obiective ce contribuie la apariţia delicvenţei juvenile sunt: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48640" cy="43214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Lips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unor fonduri materiale şi băneşti pentru asigurarea protecţiei reale a familiei, care să asigure condiţii de creştere şi educare a copiilo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Apariţia şi creşterea îngrijorătoare a numărului grupurilor care favorizează comiterea infracţiunilor, formate din infractori majori la care sunt atraşi şi minori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Creşterea aberantă a preţurilor la toate produsele concomitent cu scăderea puterii de cumpărare ; în aceste condiţii părinţii nu mai pot asigura copiilor cele necesare unui trai decen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Existenţa unor boli psihice la minori şi netratarea datorită lipsei de medicamente din sistemul sanita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Existenţa unor grade de întârziere în evoluţia intelectuală a minorului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Proliferarea necontrolată a unor publicaţii , casete video, filme cu caracter pornografic şi violent , toate pe fondul lipsei de educaţi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556000" y="836280"/>
            <a:ext cx="5914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500" spc="-1" strike="noStrike">
                <a:solidFill>
                  <a:srgbClr val="ff8d3e"/>
                </a:solidFill>
                <a:latin typeface="Verdana"/>
              </a:rPr>
              <a:t>Cauzele specifice care contribuie la apariţia acestui fenomen sunt: </a:t>
            </a:r>
            <a:br>
              <a:rPr sz="2500"/>
            </a:br>
            <a:endParaRPr b="1" lang="en-US" sz="2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8291520" cy="3886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Necunoaşterea de către părinţi a anturajului , locurilor şi mediilor frecventate de minori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Influenţa unor infractori aflaţi în anturajul minorilor prin determinarea acestora să comită infracţiuni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Lipsa unei legături permanente între familie şi şcoală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Discontinuitatea în educaţia şi supravegherea copiilor de către părinţi sau ocrotitori legali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55280" y="291960"/>
            <a:ext cx="793116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8d3e"/>
                </a:solidFill>
                <a:latin typeface="Verdana"/>
              </a:rPr>
              <a:t>Din cazuistică rezultă că aspectele comportamentale deviante întâlnite mai frecvent sunt :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497800" cy="44024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Fuga în mod repetat de la domiciliu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Absenţe nemotivate de la şcoală, dezinteres faţă de învăţătură sau abandonarea şcolii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Hoinăreala, vagabondaj, libertinism, consum de băuturi alcoolice , droguri, aurolac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Tendinţe de aventurism, de constituire în grupuri în scopul comiterii de infracţiuni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Alegerea unor anturaje din mediul infracţional, unde se găsesc infractori majori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Sfidarea legilor, a normelor de disciplină , a normelor de convieţuire socială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Portul unor arme albe sau de foc, a unor substanţe lacrimogene sau paralizante, cu scopul de a fi folosite la atac sau apărare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500" spc="-1" strike="noStrike">
                <a:solidFill>
                  <a:srgbClr val="ff8d3e"/>
                </a:solidFill>
                <a:latin typeface="Verdana"/>
              </a:rPr>
              <a:t>Pentru a evita implicarea în săvârşirea unor fapte care contravin legii este bine să :</a:t>
            </a:r>
            <a:endParaRPr b="1" lang="en-US" sz="2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57200" y="1484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Nu legaţi prietenii cu persoane care manifestă un comportament devian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Fiţi prudenţi în relaţiile cu persoanele nou cunoscute sau cunoscute întâmplător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Nu intraţi în anturaje dubioase!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Evitaţi frecventarea locurilor şi mediilor unde se adună persoane dubioase, se consumă alcool, droguri sau se practică jocuri de noroc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Nu primiţi nimic de la persoane necunoscute sau despre care aveţi puţine informaţii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Dacă aveţi ocazia,  combateţi delicvenţa legată de droguri, demascând plasatorii şi eventualii consumatori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Atunci când anumite persoane din anturajul vostru vă oferă spre vânzare la preţuri modice diferite obiecte sau valori a căror provenienţă nu o cunoaşteţi trebuie să vă dea de gândi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500" spc="-1" strike="noStrike">
                <a:solidFill>
                  <a:srgbClr val="ff8d3e"/>
                </a:solidFill>
                <a:latin typeface="Verdana"/>
              </a:rPr>
              <a:t>Studiul de caz: prevenirea delicvenţei juvenile</a:t>
            </a:r>
            <a:endParaRPr b="1" lang="en-US" sz="2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7200" y="1196640"/>
            <a:ext cx="8229600" cy="4822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Elevul Mihai din clasa a IX-a face parte dintr-o familie organizată cu o situaţie modestă. El merge la şcoală, înţelege situaţia materială a familiei sale şi doreşte să-şi continue studiile. După vacanţă, nu prea mai are chef de învăţat şi a luat căteva note rele. A început să urască matematica, pe motivul că profesorul îl persecută. Profesorul observă şi îl întreabă ce se î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âmplă cu e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“ </a:t>
            </a: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Ce-l interesează pe el ? E problema mea, ştiu eu când să învăţ.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Într-o zi tatăl său îl întreabă cum mai merge şcoala. Băiatul îi răspun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Bine tată, bine!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507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lang="ro-RO" sz="2200" spc="-1" strike="noStrike">
                <a:solidFill>
                  <a:srgbClr val="ff8d3e"/>
                </a:solidFill>
                <a:latin typeface="Verdana"/>
              </a:rPr>
              <a:t>În zilele următoare a evitat ora de matematică, iar pe lângă ea şi pe altele... Pleca în fiecare zi de la şcoală. S-a împrietenit cu doi colegi care şi ei hoinăreau, chiuleau şi fumau. Unul dintre ei aducea ţigări scumpe.</a:t>
            </a: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68360" y="2276640"/>
            <a:ext cx="8183520" cy="3900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De unde le ai ?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Se găsesc destule” şi făcu semnul furtişagului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Plăcerea comună devenea tot mai distractivă. Se “descurcau” cu ţigările. Într-o zi vânzătorul unei tarabe  l-a prins pe “prieten” băgând o brichetă în buzunar. A strigat la el, făcându-l hoţ. Mihai se enervă şi sări în ajutorul prietenului. Strigă la rândul său, îl făcu mincinos pe vânzător şi încercă să-i oprească mâna ce încerca să-l reţină pe prieten. Se adună multă lume, apăru şi Poliţia care luă măsurile necesar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9T15:48:20Z</dcterms:created>
  <dc:creator>catalina</dc:creator>
  <dc:description/>
  <dc:language>en-US</dc:language>
  <cp:lastModifiedBy>Mihaela</cp:lastModifiedBy>
  <dcterms:modified xsi:type="dcterms:W3CDTF">2012-05-06T18:23:22Z</dcterms:modified>
  <cp:revision>29</cp:revision>
  <dc:subject/>
  <dc:title>Cum să prevenim delicvenţa juvenilă.</dc:title>
</cp:coreProperties>
</file>